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gif" ContentType="image/gif"/>
  <Override PartName="/ppt/media/image7.wmf" ContentType="image/x-wmf"/>
  <Override PartName="/ppt/media/image8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1C75-E7F6-4232-B02F-6A071125F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EB27-BCAD-4B71-AC3C-74A2FAFAC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28CB-98F1-4038-B2C0-905043315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BF4B-05B3-49EB-8519-1AD88321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DB0-D9B4-42A7-A13E-2FA07EAD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60D-B1BD-48B4-9F37-29E44C1C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55B-5018-46AD-A7AD-FEA3F3ED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E41-E572-4853-8667-2BA805A9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0EA0-3F98-4D23-9A35-52D5316E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1C16-F401-46EE-A993-2C83E44F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4176-92E8-452E-843C-54FDDC52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3707-2924-4F33-8059-FC112C37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1A17-2D06-4AD9-809E-FC36AEC6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70E6-73AB-4BC3-9885-F18FF8C9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2130-6670-4C05-ACCB-2115662E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131-6897-4FD2-8ECC-EA47553D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4276-CDC5-4AAF-A899-8F8A7EB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3712-99CC-45DC-95F0-EC5E3D3C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7383-6DB8-4782-A25E-C5D12F79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99E7-3177-4E05-9B77-CB6E53D8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F428-D856-44AE-B60A-5C696213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F262-C891-4868-AC89-720775CF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959C-C1EA-49C2-9CDC-0577C169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4E19-4680-4579-9B3E-E8F166D1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4692-F6D4-4344-AAEB-DC0A4226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B5C05-2555-4D86-B653-9BFBBBFE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D87-3224-49B2-8A1E-22BB90CC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37AC-38F5-4347-942D-480078AF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FBED1-A13D-46C5-9CAB-7E75884B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6BF9-64D0-452E-9C89-60BB555B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3EFBA-3A50-4CD6-B065-5645B100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2D4A-E06F-4083-80AF-48546EAF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A3FD-5E01-4D2B-96AD-41EB981C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E346C-5E91-476D-8221-D36DC886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E211C-9949-4602-A419-0A79CB41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9333C-409D-43AD-A06E-E235C186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86082-CFD1-4551-B28A-BE6EF01B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91F-44F0-4B03-8BB3-E1A8E94A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640F-566E-4C51-BCA0-40EB5EBF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F2A8-B5A3-4F07-8515-CEB334DB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57321-B9FC-4BB4-B811-F83D79E3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9D33E-941D-4998-A852-F3DCA01D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67744-5F60-4455-BF27-E6AB848D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9481D-BC9F-45E4-BA81-9933D6DC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A67ED-628D-4429-A173-543FC757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170A5-95AD-4647-B8F6-AA92FEFA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5863D-EE5F-49A9-BCFD-A00BE701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AC0-AE5C-43FA-A9BC-33223259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CAF-901D-4C78-84FB-C88CBAF7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DFE-1E5B-4F9D-9308-6EF4EFA3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5CF-9D41-4777-A891-3496A534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B5B-2811-42FE-9C8C-2E4C835D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7B6F-E479-49B3-8AD7-3D094F041C9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6112-512E-4A43-B259-2EF5A4D2CCD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2DEA-3D6E-4DA7-816E-C50130317FF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0371-55C6-42D5-8148-31C4C416287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blogs.suite101.com/article.cfm/blogging_etiquette" TargetMode="Externa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3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IGITAL CITIZENSHIP-ETIQUETTE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en, Where, How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ell phone use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ways use discretion when using  your cell phone in public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log commenting-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gs are an educational way to learn from others and share your ideas on a topic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3" descr="C:\Program Files\Microsoft Office\Media\CntCD1\Animated\j0300508.gif"/>
          <p:cNvPicPr/>
          <p:nvPr/>
        </p:nvPicPr>
        <p:blipFill>
          <a:blip r:embed="rId1"/>
          <a:stretch/>
        </p:blipFill>
        <p:spPr>
          <a:xfrm>
            <a:off x="457200" y="4191120"/>
            <a:ext cx="1981080" cy="1761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6172200" y="41148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ELL PHONE 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afety - Pay attention to the ro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olume - Speak softl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oximity - Keep your distance. (10 to 20 ft. of another pers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ntent - Keep business priv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one - Keep a civil and pleasant ton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ocation - Pick your spot. (look for a good signal before call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iming - No cell phone before it's time. (entering building, airplane ect.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ulti-Tasking - One thing at a tim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C:\Program Files\Microsoft Office\Media\CntCD1\ClipArt8\j0343569.wmf"/>
          <p:cNvPicPr/>
          <p:nvPr/>
        </p:nvPicPr>
        <p:blipFill>
          <a:blip r:embed="rId1"/>
          <a:stretch/>
        </p:blipFill>
        <p:spPr>
          <a:xfrm>
            <a:off x="6705720" y="0"/>
            <a:ext cx="1787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OG COMMENTING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C:\Documents and Settings\101eckertpa.RRISD\Local Settings\Temporary Internet Files\Content.IE5\D4MI3R5J\MPj04393500000[1].jpg"/>
          <p:cNvPicPr/>
          <p:nvPr/>
        </p:nvPicPr>
        <p:blipFill>
          <a:blip r:embed="rId1"/>
          <a:stretch/>
        </p:blipFill>
        <p:spPr>
          <a:xfrm>
            <a:off x="457200" y="21193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ponsible, respect, relax-global aud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ecific top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n’t steal other’s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tribution-return credit </a:t>
            </a:r>
            <a:r>
              <a:rPr b="0" lang="en-US" sz="11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blogs.suite101.com/article.cfm/blogging_etiquette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use before you submit-you may regret what you wrot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n’t promote yourself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C:\Documents and Settings\101eckertpa.RRISD\Local Settings\Temporary Internet Files\Content.IE5\MEUGZRBF\MCj04346710000[1].wmf"/>
          <p:cNvPicPr/>
          <p:nvPr/>
        </p:nvPicPr>
        <p:blipFill>
          <a:blip r:embed="rId3"/>
          <a:stretch/>
        </p:blipFill>
        <p:spPr>
          <a:xfrm>
            <a:off x="7229520" y="0"/>
            <a:ext cx="19144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9:27:42Z</dcterms:created>
  <dc:creator>101eckertpa</dc:creator>
  <dc:description/>
  <dc:language>en-US</dc:language>
  <cp:lastModifiedBy>RRISD</cp:lastModifiedBy>
  <dcterms:modified xsi:type="dcterms:W3CDTF">2009-03-13T20:20:30Z</dcterms:modified>
  <cp:revision>10</cp:revision>
  <dc:subject/>
  <dc:title>DIGITAL CITIZENSHIP</dc:title>
</cp:coreProperties>
</file>